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5BC-C189-492D-A003-6A50DF40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616-24C0-4111-939F-3C157C98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33E275-8CCF-4990-B5EF-521CA93E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9B1003-EFAD-49DB-9667-C8BD680C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A54377-BB71-4246-A5F0-BE0C443B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AA1983-F86D-460C-8034-2160809E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E88275-FC23-4F0B-931F-53F93A64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6A95FC-D15D-4B9B-927C-94A3B984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FDA3B1-E555-47F5-997B-C5A5ED0F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82FE6-2337-40F7-95D9-65CC37DD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07FED-6B54-4747-8DF2-207695B4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E0B-D43E-4101-9406-B2FCAFA6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D7A-8E7D-4560-A195-3CC6B536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3FB93-F53E-484E-B54A-914C5A33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B8B02-6432-4836-9418-B8C60838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B0EBB-CD35-4F99-8109-1515881E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60D09-D298-4569-ADDE-7A887653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5490E-ABF9-41C9-99FE-FA1A68F5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C6B4F-9258-4237-BC9C-FF4A8D9D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B78D1-46D2-4CD0-BC4D-B0DDE4E6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814-9932-42FC-AA1E-E09E530B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B93F3-89A6-4687-AC6B-FA6898F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F39D5-267A-4AA9-856E-70CC4A9E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D61B0-3AF2-4D41-BE66-1B0B9AFB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71BCF-BA70-4414-832B-CF70C4F7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83B70-F912-40A3-953E-5AF88AAE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34E4-7271-415B-A315-3A9501AA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4FA6-2879-400C-B7C6-EECE59EC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CE37-0549-4795-B906-6FA7E662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F56F-B963-417B-B5DD-1ACDCC2C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AE6F-1789-48CE-A50A-7D4CEB9E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984-2992-442D-A7E8-903E2E30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CBD2-806D-4A2F-BC43-08B81509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B3B3-89E4-4462-B6BF-7E35871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BB0E-BC15-4A86-8FE2-5616A64C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5EBB-FEBA-4855-9434-A0F2354C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841C-E4BE-4A1F-9D46-3DF654E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960C-3BE9-4D1F-9144-8C6C80C3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2BDB-76D9-46B3-91C9-785A27D6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680BF-B481-4B05-841D-353F74C7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B603D-1B1D-48D1-8FA1-208F0211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A86E6-4566-4987-9D19-54A9C127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A72-A85F-49B1-B072-E152088A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97FC5-30E6-484C-873F-28E25B4B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10FBD-63CA-4F05-BDB4-D74D89BA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7677E-F61A-489A-A55A-2F84F197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45C75-3B4C-4D3E-85B6-DB0A886E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B5FE3-F9E9-4730-BF32-FE977FBC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648E0-2B20-4376-8AE8-F30DEE2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B5724-FEB2-4631-B014-77EB738B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1E2F1-0E9E-4A67-86A4-49E61545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82A44-B188-4F3D-8994-3F70738C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7050-5391-4367-80F2-879FA2C7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82C-52E4-4C13-B3AB-6CE90268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168E8-9A91-49C7-A88D-8A3F67BE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5E5D5-C819-4D70-885F-9B3CBF0D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5853A-3D36-4907-B409-8922409C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45C3A-9455-4A40-B105-4030C619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2FF23-1634-4337-926A-C28D3888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EE11-F1DD-4E5E-94E0-85133E64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9BF2-5B3F-4A01-8726-EF43874A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47B3A-07CC-40AD-8FB5-FA869A4D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013E0-BE6E-4844-83FA-00398229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8771A-7059-4BD9-9953-665E8E38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69F-C1BB-46CD-8776-EEE6064A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0C1E0-56A4-409E-A412-994AE089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62E3-DB10-42B5-8D95-D8FB8521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2C57D-471D-4600-8F3E-BD81E123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BD2D1-8A37-4027-AF5C-8E028640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9B633-2D1A-496E-AEA8-2C225693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C7CB-69D8-4865-98B0-B23F7811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86884-4304-43B5-86B8-D7DEB95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2E2E-02DE-4E55-BF92-1001AAD3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D31A-4B89-4CAD-B3A6-05D4296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E26D8-9BB9-4BA0-AB5F-46E9168C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E24-73A8-4690-9DA7-89667AF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07A9-C258-4C94-A34E-A16F07EA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6301-D3AB-457E-A060-685486F4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0893-EBE6-41AB-8065-501D1557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22A0C-8C1E-40C7-B1CA-68088569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B2ACF-8CD7-4536-8FB1-443FE435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11DBA-3AD2-45DF-9773-694D2C83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59B8E-5672-4242-932F-8DAFB594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2AEFE-3BFC-4BCF-B579-56180751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EC031-FF33-4647-AE7D-5911BF87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0CE8A-FCE1-4BE9-9B40-8111633F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476-6959-428A-81E9-3188633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88BB6-36D3-4A39-AAE1-8C503BFC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490AA-E095-477E-BC36-312E377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80B99-BD48-4747-AEF1-62F940A9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2E7D7-81FA-49D0-8BCE-78A29262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3DD17-94BF-4B16-9330-5895EF57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AE3A95-85EC-44BB-8DB8-32748761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CCA27-60A8-4814-B56B-1445B0B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93B35C-1BA6-43AD-A63F-404C51A2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08593D-80C4-4223-A86C-3C750BA5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732205-C4E8-43D4-94AA-482481D4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988-FB9F-4C90-B259-FD685B2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AE4B7-9694-44E5-8466-C3217F3F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ADB0C-48DD-4D6A-947B-12EFED1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E6592B-686F-4C84-A9A9-59DDE5E1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C8079-8BDB-48AE-8910-818AE93A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87E4D3-B3DB-47A0-9EE0-F578ED45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6C19E2-3BAA-4202-8B49-E21CF459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B1BDF-11DF-41C5-AE9A-253300DC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26FEA7-5CA0-4767-BD53-75695BFC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297ED-FB9E-45AF-A306-970056E5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FF1F0-C811-4426-B137-27E2B1C5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F1F8-0920-4EFF-914B-98AA7E6A8C5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99F4-E83D-4C24-B81E-FF569EA5626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07CA-1DC2-4FC8-A6DA-F91DE2D9CC6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EB25-3481-4195-8895-2985E626FFB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923F-323F-4997-AC5D-8C84AD50F84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D275-A3E4-44A9-9483-3756C3DCB4F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4FE6-4805-418B-BCC3-E4C20764D15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A238-A8B8-4DB5-A9AF-FA4605BD77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C07D-1FBD-4745-B1BD-D31A2E61CB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5828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t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ollu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alth problem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ciden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626680" cy="21034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1:51:17Z</dcterms:created>
  <dc:creator>IT</dc:creator>
  <dc:description/>
  <dc:language>en-US</dc:language>
  <cp:lastModifiedBy>IT</cp:lastModifiedBy>
  <dcterms:modified xsi:type="dcterms:W3CDTF">2011-02-17T02:00:52Z</dcterms:modified>
  <cp:revision>1</cp:revision>
  <dc:subject/>
  <dc:title>Effects of Mixtures to Living Things and the Environment</dc:title>
</cp:coreProperties>
</file>